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AEBB-5803-4D28-9610-92C40FF2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EC27-0DA1-4704-A53B-58F05288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FB01-4532-4522-BE1D-83C8B05A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455D-17CD-4482-B302-1743C7E6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C696-3EEE-4539-A33C-62728716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A897-82BE-4F9E-8B6F-376EAFF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74E-90CB-41D1-B4B1-9687E27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C33B-EAC0-4477-A32B-581E9B52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4A98-A89A-4D11-80EF-C579E59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4CC1-AFDD-4DF1-86B1-0123BFE2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EF5-3007-4CB9-A88C-0FC9ECB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ABC1-46BD-4254-8E9F-3846513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BF1-7F7A-4A57-AF46-64A0B4A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0279-9792-427E-8FDA-C3679B6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0A35-52D6-4367-AB57-C95E5411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CEFA-0EA6-41BA-BCF5-5ADD969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535-19BA-4497-AD97-322E9117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07EA-C8EF-4020-A726-C82EA641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BC76-FC35-4101-8B30-0E1D378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CFCA-C22F-4690-A05A-3E90D4B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6EC2-F27D-40FA-9D6E-D5C064A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CFB3-A4C7-43AA-AEFF-28468EE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6579-2C64-4230-BCEF-8E8C891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A3F5-DD0F-441A-885B-57F1A6A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DE88-82CB-46BB-8834-CBBD9967028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D6A-4312-47CE-8395-7DC4D6501FC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39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92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или Пастирю Хрис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пази ме през нощ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ъм Твоето дет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ди над мене до зо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70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През деня Ся ме пази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е мили, от бе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плил Си ме и хранил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ко Ти благодаря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972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ой Спасителю 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еховете ми прос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чки мили мои с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едно благосло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5:02:09Z</dcterms:modified>
  <cp:revision>226</cp:revision>
  <dc:subject/>
  <dc:title>Slide 1</dc:title>
</cp:coreProperties>
</file>